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818-83BB-4E76-AF2F-C9543CF9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3E0-4799-4309-BE79-AE290BB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C3F-DCE6-4187-BF40-9A6FC37C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56B-EAEB-4039-B734-9AE05A2F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5C9-2104-41BF-80E7-37D56CD0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C82-2530-4F8E-9721-0779CD8E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34D-E068-4661-A6F8-6D184A0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169-1158-4AE5-A3E7-4177761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CD5-1973-4695-8D17-4D4D9E8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CDF-3DB3-4B3C-A09D-919A5345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BA6-F31E-418D-8D21-7B8DDFF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F9F-13EB-42B9-A639-24BD1DB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D86-D653-453B-BD25-8CDC25A93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toy-express.ru/images/product_images/popup_images/1610_0.jpe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0020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00160" y="642960"/>
            <a:ext cx="631188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 «Чем слово наше отзовет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Захар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Гимназия № 2» г.Ворк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-660600"/>
            <a:ext cx="818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Ira\Desktop\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2286000" y="3105000"/>
            <a:ext cx="4572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Calibri"/>
              </a:rPr>
              <a:t>Что такое сквернословие?</a:t>
            </a:r>
            <a:r>
              <a:rPr b="1" lang="ru-RU" sz="4800" spc="-1" strike="noStrike">
                <a:solidFill>
                  <a:srgbClr val="0066cc"/>
                </a:solidFill>
                <a:latin typeface="Times New Roman"/>
                <a:ea typeface="Calibri"/>
              </a:rPr>
              <a:t> </a:t>
            </a:r>
            <a:br>
              <a:rPr sz="1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95904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Ira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00040" y="9288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ЛОВО ЛЕ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obshenie_s_rebenkom"/>
          <p:cNvPicPr/>
          <p:nvPr/>
        </p:nvPicPr>
        <p:blipFill>
          <a:blip r:embed="rId2"/>
          <a:stretch/>
        </p:blipFill>
        <p:spPr>
          <a:xfrm>
            <a:off x="428760" y="1500120"/>
            <a:ext cx="4071960" cy="4873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5143680" y="221472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ОВО 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123"/>
          <p:cNvPicPr/>
          <p:nvPr/>
        </p:nvPicPr>
        <p:blipFill>
          <a:blip r:embed="rId3"/>
          <a:stretch/>
        </p:blipFill>
        <p:spPr>
          <a:xfrm>
            <a:off x="4643280" y="2857680"/>
            <a:ext cx="4210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Ira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279440" y="171360"/>
            <a:ext cx="72313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Картинка 19 из 198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71880" y="1643040"/>
            <a:ext cx="46432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Ira\Desktop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285920" y="35712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28760" y="1143000"/>
            <a:ext cx="4714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м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убить, словом можно спа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олки за собой пове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одать, и       пред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упить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в разящий свинец пер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.Шеф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Ira\Desktop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428760" y="37080"/>
            <a:ext cx="37144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как мне быть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таршим я груб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т па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ь откры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вори ее, герой!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у в ответ серди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закр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едом скажет ма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лапуся, передай!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ответ шепчу упря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. Сама пода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бабушку любл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— и ей груб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еда обожа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деду возражаю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как мне быть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таршим я груб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и ко м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чи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ь скорее! Стынет супчик!..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и ко м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о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ь еще кусочек?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и ко м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, лапуся, на бочок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ое обращ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ижу, не терпл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иплю от возмущен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этому груб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как мне быть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таршим я груб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643120" y="5715000"/>
            <a:ext cx="42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го я распустил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грублю я всем вокр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от рук отби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аких, скажите, рук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Яна Савина\Мои документы\Развитие\Материал для презентаций\Урок вежливости\sorry.jpg"/>
          <p:cNvPicPr/>
          <p:nvPr/>
        </p:nvPicPr>
        <p:blipFill>
          <a:blip r:embed="rId2"/>
          <a:stretch/>
        </p:blipFill>
        <p:spPr>
          <a:xfrm>
            <a:off x="2857680" y="142920"/>
            <a:ext cx="5572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Ira\Desktop\3.pn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643040" y="285768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000160" y="342900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стать ругаться самому, выработать отвращение и брезгливость к скверно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бегать общения с людьми, которые употребляют нецензурные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итать русскую классическую литера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Давайте жить дружно картинки и изображения с надписями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20:23:41Z</dcterms:created>
  <dc:creator>Ira</dc:creator>
  <dc:description/>
  <dc:language>en-US</dc:language>
  <cp:lastModifiedBy>Ira</cp:lastModifiedBy>
  <dcterms:modified xsi:type="dcterms:W3CDTF">2020-01-12T17:16:21Z</dcterms:modified>
  <cp:revision>5</cp:revision>
  <dc:subject/>
  <dc:title>Слайд 1</dc:title>
</cp:coreProperties>
</file>